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853-0F4B-46E0-8ED3-DF54106E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084-6CE3-4E82-8161-2786D2F3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49D-3DC2-44F0-8B88-3503F936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8DB-CBC0-4613-935A-0821DA0F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3C7F-6E41-450C-9A82-D9BE055E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FDC-48B8-4DAB-BC75-A55B946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A769-5EC4-4095-B63C-82CE412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C54B-45F9-49B0-B767-BEA91FB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2C44-309A-4057-A3F3-5D1068E7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BA88-5728-4670-B203-A5C1BE73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0D1E-85EB-4176-8610-6423AA2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0AD-8112-4BAC-B7D4-944FD9F6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C677-4A2A-4277-AF4E-B3D7B2C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006B-E959-4A8F-A959-DA77C30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78C-B047-4DE6-9C37-98D283EE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B927-8B30-409E-93A7-24CC558B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2249-EA76-4976-AEDE-CA580404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F1D-0226-4934-AEC6-4E3D6AD0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8B6-ABB5-4F72-9DA5-F358F84C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F8D-F41F-4D8D-A81F-92DE02CF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DBC-E7F1-480E-BE07-7A6F6B2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7F2-BC95-40F2-908A-60855C8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EDB-EF09-478C-9F17-3731E85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471-289A-4BB4-AD3B-B607033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605-010A-4905-8718-96C33B16B74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0FE7-FB50-4594-BBE0-89FF6EAC646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 Remnant Shall Retur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rter 8, Lesson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ges 47-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er. 38-40; Eze. 32-33,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8077320" cy="524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9000" y="2362320"/>
            <a:ext cx="609480" cy="19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609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Here On The Time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16002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zekiel &amp; Jerem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648320"/>
            <a:ext cx="121932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Jeremiah’s Message To Zedekiah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e Opposite of What Zedekiah Wanted to Hear – Jer. 37:1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Change Anyone’s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Got Jeremiah Into Trouble - 37:11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remiah Continued to Tell The Unpopular Truth That Zedekiah Would Soon Be Handed Over To The King of Babylon - 17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as Jeremiah Really The Trouble Maker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oes Wanted To Get Rid of Him – Jer.38:1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 Has Ways of Delivering The Godly – 38:7-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emiah Gets One Final Meeting With Zedekiah – 38:14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, His Message Remained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remiah Did Not Compromise For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l Troublers Were In The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Were Not Sincere About Serving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Were Troubling God and the Right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he Babylonians Move Into Jerusalem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ll is Breached – (2 Kgs. 25:4-7) in 586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ll of Jerusalem – Jer. 39:1-7; 52:6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dekiah is blinded, bound, and sent into ex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usalem is burned – 2 Kgs. 25:8-17; Jer. 39:8; 52:12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emiah is given a choice; and he chooses to stay in Jerusalem – Jer. 39:11-14; 40:1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officials were executed – 2 Kgs. 25:18-21; Jer. 52:24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daliah is appointed governor – 2 Kgs. 25:22-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Lamentatio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remiah Writes of the Grief of Seeing Jerusalem in R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rrows in Jerusalem – ch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son for Jerusalem’s Overthrow- ch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’s Mercy: The Hope of Relief – ch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st and Present of Israel – ch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tress of the Siege Described – ch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Prayer for Mer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Gedaliah is Slai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k by Ishmael, a traitor in the army, who was hired by Baalis king of A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ear of reprisal from Babylon, the Jews flee to Egypt, taking Jeremiah and Baruch with them – 585 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ekiel Learns of the Fall of Jerusalem – Ezek. 33:21-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Becomes The Target of God’s Wrath – Ezek. 32:1-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Back In Babylon Ezekiel Paints A Picture of Hop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ithful Watchman Keeps Telling the Truth Even If People Refuse To Take It To Heart – Ezek. 33:1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ithless Watchman Will Be Held Responsible For Not Warning the People - 33: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capee From Jerusalem Comes to Ezekiel – 33:21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Sm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Back In Babylon Ezekiel Paints A Picture of Hop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Yet Future Blessings For Israel – Ezek. 36:1-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Come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Replant and Reple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 will protec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have new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be His people; He will Be Their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24:44Z</dcterms:created>
  <dc:creator> Tab Vines</dc:creator>
  <dc:description/>
  <dc:language>en-US</dc:language>
  <cp:lastModifiedBy>Frank D Vines</cp:lastModifiedBy>
  <dcterms:modified xsi:type="dcterms:W3CDTF">2006-05-01T22:36:24Z</dcterms:modified>
  <cp:revision>5</cp:revision>
  <dc:subject/>
  <dc:title>A Remnant Shall Return</dc:title>
</cp:coreProperties>
</file>